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779640" y="-360"/>
            <a:ext cx="288900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79120" y="736200"/>
            <a:ext cx="4910040" cy="36831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888480" y="4664160"/>
            <a:ext cx="48913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329400"/>
            <a:ext cx="288936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779640" y="9329400"/>
            <a:ext cx="2889000" cy="490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16CB-3B2C-4186-8607-59CB581CD9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79480" y="736560"/>
            <a:ext cx="4910040" cy="3683160"/>
          </a:xfrm>
          <a:prstGeom prst="rect">
            <a:avLst/>
          </a:prstGeom>
          <a:ln w="0">
            <a:noFill/>
          </a:ln>
        </p:spPr>
      </p:sp>
      <p:sp>
        <p:nvSpPr>
          <p:cNvPr id="14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48E2-596E-4B42-9053-C0C00ACE5EBA}"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79480" y="736560"/>
            <a:ext cx="4910040" cy="3683160"/>
          </a:xfrm>
          <a:prstGeom prst="rect">
            <a:avLst/>
          </a:prstGeom>
          <a:ln w="0">
            <a:noFill/>
          </a:ln>
        </p:spPr>
      </p:sp>
      <p:sp>
        <p:nvSpPr>
          <p:cNvPr id="169"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0"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F182-3E2D-46E6-ABA8-2873C3174BF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79480" y="736560"/>
            <a:ext cx="4910040" cy="3683160"/>
          </a:xfrm>
          <a:prstGeom prst="rect">
            <a:avLst/>
          </a:prstGeom>
          <a:ln w="0">
            <a:noFill/>
          </a:ln>
        </p:spPr>
      </p:sp>
      <p:sp>
        <p:nvSpPr>
          <p:cNvPr id="17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C555-BF85-41D5-8C1B-BAC7891E53A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9480" y="736560"/>
            <a:ext cx="4910040" cy="3683160"/>
          </a:xfrm>
          <a:prstGeom prst="rect">
            <a:avLst/>
          </a:prstGeom>
          <a:ln w="0">
            <a:noFill/>
          </a:ln>
        </p:spPr>
      </p:sp>
      <p:sp>
        <p:nvSpPr>
          <p:cNvPr id="17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736D-7893-45BF-9263-E5C76F779E9E}"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79480" y="736560"/>
            <a:ext cx="4910040" cy="3683160"/>
          </a:xfrm>
          <a:prstGeom prst="rect">
            <a:avLst/>
          </a:prstGeom>
          <a:ln w="0">
            <a:noFill/>
          </a:ln>
        </p:spPr>
      </p:sp>
      <p:sp>
        <p:nvSpPr>
          <p:cNvPr id="17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F624-D087-4BE1-B46E-15F851A2082A}"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9480" y="736560"/>
            <a:ext cx="4910040" cy="3683160"/>
          </a:xfrm>
          <a:prstGeom prst="rect">
            <a:avLst/>
          </a:prstGeom>
          <a:ln w="0">
            <a:noFill/>
          </a:ln>
        </p:spPr>
      </p:sp>
      <p:sp>
        <p:nvSpPr>
          <p:cNvPr id="18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F9BF-AFAF-44A5-99D7-E9990F375A6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79480" y="736560"/>
            <a:ext cx="4910040" cy="3683160"/>
          </a:xfrm>
          <a:prstGeom prst="rect">
            <a:avLst/>
          </a:prstGeom>
          <a:ln w="0">
            <a:noFill/>
          </a:ln>
        </p:spPr>
      </p:sp>
      <p:sp>
        <p:nvSpPr>
          <p:cNvPr id="18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8BDE-A3F8-4475-885A-812A1995E4A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79480" y="736560"/>
            <a:ext cx="4910040" cy="3683160"/>
          </a:xfrm>
          <a:prstGeom prst="rect">
            <a:avLst/>
          </a:prstGeom>
          <a:ln w="0">
            <a:noFill/>
          </a:ln>
        </p:spPr>
      </p:sp>
      <p:sp>
        <p:nvSpPr>
          <p:cNvPr id="187"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8"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BED6-6D12-4045-95FE-C92683662BA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79480" y="736560"/>
            <a:ext cx="4910040" cy="3683160"/>
          </a:xfrm>
          <a:prstGeom prst="rect">
            <a:avLst/>
          </a:prstGeom>
          <a:ln w="0">
            <a:noFill/>
          </a:ln>
        </p:spPr>
      </p:sp>
      <p:sp>
        <p:nvSpPr>
          <p:cNvPr id="19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E86C-6A8D-4711-9F2C-5804A2C39045}"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79480" y="736560"/>
            <a:ext cx="4910040" cy="3683160"/>
          </a:xfrm>
          <a:prstGeom prst="rect">
            <a:avLst/>
          </a:prstGeom>
          <a:ln w="0">
            <a:noFill/>
          </a:ln>
        </p:spPr>
      </p:sp>
      <p:sp>
        <p:nvSpPr>
          <p:cNvPr id="19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4C99-8EB6-432B-9365-BCEB44375A73}"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79480" y="736560"/>
            <a:ext cx="4910040" cy="3683160"/>
          </a:xfrm>
          <a:prstGeom prst="rect">
            <a:avLst/>
          </a:prstGeom>
          <a:ln w="0">
            <a:noFill/>
          </a:ln>
        </p:spPr>
      </p:sp>
      <p:sp>
        <p:nvSpPr>
          <p:cNvPr id="19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A926-6EC5-42AE-9165-18AF142C11DB}"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79480" y="736560"/>
            <a:ext cx="4910040" cy="3683160"/>
          </a:xfrm>
          <a:prstGeom prst="rect">
            <a:avLst/>
          </a:prstGeom>
          <a:ln w="0">
            <a:noFill/>
          </a:ln>
        </p:spPr>
      </p:sp>
      <p:sp>
        <p:nvSpPr>
          <p:cNvPr id="14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C8AC-41C9-43D0-8CDD-52BB790B63E1}"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79480" y="736560"/>
            <a:ext cx="4910040" cy="3683160"/>
          </a:xfrm>
          <a:prstGeom prst="rect">
            <a:avLst/>
          </a:prstGeom>
          <a:ln w="0">
            <a:noFill/>
          </a:ln>
        </p:spPr>
      </p:sp>
      <p:sp>
        <p:nvSpPr>
          <p:cNvPr id="14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DA27-A7D9-4079-9B19-7201D421859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79480" y="736560"/>
            <a:ext cx="4910040" cy="3683160"/>
          </a:xfrm>
          <a:prstGeom prst="rect">
            <a:avLst/>
          </a:prstGeom>
          <a:ln w="0">
            <a:noFill/>
          </a:ln>
        </p:spPr>
      </p:sp>
      <p:sp>
        <p:nvSpPr>
          <p:cNvPr id="15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7CF9-46D5-48A1-B7B6-27ADD5BCE522}"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79480" y="736560"/>
            <a:ext cx="4910040" cy="3683160"/>
          </a:xfrm>
          <a:prstGeom prst="rect">
            <a:avLst/>
          </a:prstGeom>
          <a:ln w="0">
            <a:noFill/>
          </a:ln>
        </p:spPr>
      </p:sp>
      <p:sp>
        <p:nvSpPr>
          <p:cNvPr id="15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509C-F106-47F9-8137-89B434D6327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27F2-22E1-4F48-8121-D0066C69ECA2}"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879480" y="736560"/>
            <a:ext cx="4910040" cy="3683160"/>
          </a:xfrm>
          <a:prstGeom prst="rect">
            <a:avLst/>
          </a:prstGeom>
          <a:ln w="0">
            <a:noFill/>
          </a:ln>
        </p:spPr>
      </p:sp>
      <p:sp>
        <p:nvSpPr>
          <p:cNvPr id="158" name="PlaceHolder 2"/>
          <p:cNvSpPr>
            <a:spLocks noGrp="1"/>
          </p:cNvSpPr>
          <p:nvPr>
            <p:ph type="body"/>
          </p:nvPr>
        </p:nvSpPr>
        <p:spPr>
          <a:xfrm>
            <a:off x="888480" y="4664160"/>
            <a:ext cx="4891320" cy="4419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varbiausia – sandorių sudarymas, vykdymas – nebūtina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79480" y="736560"/>
            <a:ext cx="4910040" cy="3683160"/>
          </a:xfrm>
          <a:prstGeom prst="rect">
            <a:avLst/>
          </a:prstGeom>
          <a:ln w="0">
            <a:noFill/>
          </a:ln>
        </p:spPr>
      </p:sp>
      <p:sp>
        <p:nvSpPr>
          <p:cNvPr id="16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4956-E32A-4042-A14D-DBF62E2933F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79480" y="736560"/>
            <a:ext cx="4910040" cy="3683160"/>
          </a:xfrm>
          <a:prstGeom prst="rect">
            <a:avLst/>
          </a:prstGeom>
          <a:ln w="0">
            <a:noFill/>
          </a:ln>
        </p:spPr>
      </p:sp>
      <p:sp>
        <p:nvSpPr>
          <p:cNvPr id="16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0E3E-67CB-49C7-BD20-AA7EC385E43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79480" y="736560"/>
            <a:ext cx="4910040" cy="3683160"/>
          </a:xfrm>
          <a:prstGeom prst="rect">
            <a:avLst/>
          </a:prstGeom>
          <a:ln w="0">
            <a:noFill/>
          </a:ln>
        </p:spPr>
      </p:sp>
      <p:sp>
        <p:nvSpPr>
          <p:cNvPr id="16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C95D-A4EB-4AC7-A734-3D65DEFF7B2E}"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43925-9A8A-4FB2-9C7D-175AAFE02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2D69D-D781-4FD0-B22B-91D543BE9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CBA27-6F5F-405E-BBC0-913DA7D80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113C2-2AB5-4B26-A5F9-3EC2C636C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2E8BE-793E-4D09-ACA1-2A5013B2E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3F308-D6D6-4053-8F16-A9CFD2BE3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362CA-4615-4F17-A98B-F99E7CB5C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71BD2-5C59-456B-9C8D-EDD3FF755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0658C-C599-4C31-9E19-513D1F113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FEAB9-7202-4634-81BF-FB3523AA1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298A6-7B0D-47FD-8EB0-61859D530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9DB89-2E27-43D4-A8B7-B2305D07F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E1125-F1BD-4217-AF41-A59216E22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F4EF6-3C68-41CE-9D14-24560CCD1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94F22-D4A8-4ACD-8445-D08E80BC2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3916C-5E5D-4F6F-BA11-32B34B41B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A6EDE-5145-47B2-8315-31331CD32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F3D46-58C2-4049-B669-9A4263800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2ADA5-BD2C-49D2-B7DE-C547339B6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B0D99-42DF-4022-A61E-77C166E54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BFC53-1FBC-4453-ACE5-C8FE673D1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76969-BFC6-49CA-A1A6-7E83D4E11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60545-C23D-4E40-9399-9C2D11FCD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8B9DD-243F-4888-968C-47F52179A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03-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Tomas Lamanauskas</a:t>
            </a:r>
            <a:r>
              <a:rPr b="0" lang="en-GB" sz="1400" spc="-1" strike="noStrike">
                <a:solidFill>
                  <a:srgbClr val="000000"/>
                </a:solidFill>
                <a:latin typeface="Arial"/>
              </a:rPr>
              <a:t>,</a:t>
            </a:r>
            <a:r>
              <a:rPr b="0" lang="lt-LT" sz="1400" spc="-1" strike="noStrike">
                <a:solidFill>
                  <a:srgbClr val="000000"/>
                </a:solidFill>
                <a:latin typeface="Arial"/>
              </a:rPr>
              <a:t> </a:t>
            </a:r>
            <a:r>
              <a:rPr b="0" lang="en-GB" sz="1400" spc="-1" strike="noStrike">
                <a:solidFill>
                  <a:srgbClr val="000000"/>
                </a:solidFill>
                <a:latin typeface="Arial"/>
              </a:rPr>
              <a:t>2003</a:t>
            </a:r>
            <a:endParaRPr b="0" lang="en-US" sz="1400" spc="-1" strike="noStrike">
              <a:solidFill>
                <a:srgbClr val="000000"/>
              </a:solidFill>
              <a:latin typeface="Times New Roman"/>
            </a:endParaRPr>
          </a:p>
        </p:txBody>
      </p:sp>
      <p:grpSp>
        <p:nvGrpSpPr>
          <p:cNvPr id="8" name="Group 21"/>
          <p:cNvGrpSpPr/>
          <p:nvPr/>
        </p:nvGrpSpPr>
        <p:grpSpPr>
          <a:xfrm>
            <a:off x="228600" y="1981080"/>
            <a:ext cx="7391520" cy="319320"/>
            <a:chOff x="228600" y="1981080"/>
            <a:chExt cx="7391520" cy="319320"/>
          </a:xfrm>
        </p:grpSpPr>
        <p:sp>
          <p:nvSpPr>
            <p:cNvPr id="9"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1"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BF77-D93C-4B6F-8248-BFFCDA4BF08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B22A-E6C0-4AFF-83EB-83D9D63768A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s komercijos samprata ir rai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uropos Komisija skir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 - užsakymas, pristatymas ir atsiskaitymas už nematerialias prekes bei paslaugas vykdomas elektroniniu būdu (online): kompiuterių programinė įranga, pramoginio turinio prekės, informacinės paslaug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esioginė - materialių </a:t>
            </a:r>
            <a:r>
              <a:rPr b="0" lang="en-US" sz="2400" spc="-1" strike="noStrike">
                <a:solidFill>
                  <a:srgbClr val="003366"/>
                </a:solidFill>
                <a:latin typeface="Arial"/>
              </a:rPr>
              <a:t>produkt</a:t>
            </a:r>
            <a:r>
              <a:rPr b="0" lang="lt-LT" sz="2400" spc="-1" strike="noStrike">
                <a:solidFill>
                  <a:srgbClr val="003366"/>
                </a:solidFill>
                <a:latin typeface="Arial"/>
              </a:rPr>
              <a:t>ų užsakymas elektroniniu būdu, o pristatymas fiziniu – paštas, komerciniai kurjeri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gal dalyviu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erslui (B2B)</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artotojams (B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rtotojai vartotojams (C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lstybinės institucijos verslui, vartotojams kitoms valstybinėms institucijoms (A2B, A2C A2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3" name="Picture 6" descr="Eprimer_ecom_figure_2.jpg"/>
          <p:cNvPicPr/>
          <p:nvPr/>
        </p:nvPicPr>
        <p:blipFill>
          <a:blip r:embed="rId1"/>
          <a:stretch/>
        </p:blipFill>
        <p:spPr>
          <a:xfrm>
            <a:off x="1643040" y="4643280"/>
            <a:ext cx="5800680" cy="18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 prekyba – teisinė samprata</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rPr>
              <a:t>P</a:t>
            </a:r>
            <a:r>
              <a:rPr b="0" lang="lt-LT" sz="2800" spc="-1" strike="noStrike">
                <a:solidFill>
                  <a:srgbClr val="003366"/>
                </a:solidFill>
                <a:latin typeface="Arial Unicode MS"/>
              </a:rPr>
              <a:t>rekybinės veiklos būdas, kai sutartys sudaromos,  o esant reikalui - ir vykdomos, naudojant</a:t>
            </a:r>
            <a:r>
              <a:rPr b="0" lang="lt-LT" sz="2800" spc="-1" strike="noStrike">
                <a:solidFill>
                  <a:srgbClr val="003366"/>
                </a:solidFill>
                <a:latin typeface="Times New Roman"/>
              </a:rPr>
              <a:t> </a:t>
            </a:r>
            <a:r>
              <a:rPr b="0" lang="lt-LT" sz="2800" spc="-1" strike="noStrike">
                <a:solidFill>
                  <a:srgbClr val="003366"/>
                </a:solidFill>
                <a:latin typeface="Arial Unicode MS"/>
              </a:rPr>
              <a:t>informacines technologijas bei priemones kompiuterių tinklais keičiantis elektroniniais duomenų pranešima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aiktų pardavimo ir paslaugų teikimo, kai sutartys sudaromos, naudojant ryšio priemones, taisyklės (patvirtinta Ūkio ministro įsakymu, </a:t>
            </a:r>
            <a:r>
              <a:rPr b="0" lang="en-GB" sz="2400" spc="-1" strike="noStrike">
                <a:solidFill>
                  <a:srgbClr val="003366"/>
                </a:solidFill>
                <a:latin typeface="Arial"/>
              </a:rPr>
              <a:t>2001-08-1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omenų pranešimas – informacija, sukurta, išsiųsta, gauta ar išsaugota elektroninėmis, optinėmis ar panašiomis priemonėmis, įskaitant, bet neapsiribojant elektroniniu duomenų apsikeitimu (EDI), elektroniniu paštu, telegramomis, teleksu ar telekopij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as apibrėžiamas kaip kompiuterinių ir telekomunikacinių įrenginių/prietaisų kolektyvinė sankaupa, apimanti įrenginius ir programinę įrangą, kuri apima tarpusavyje sujungtų tinklų pasaulinį tinklą, naudojantį ir veikiantį TCP/IP pagrindu (arba bet kokių kitų </a:t>
            </a:r>
            <a:r>
              <a:rPr b="0" lang="en-US" sz="2800" spc="-1" strike="noStrike">
                <a:solidFill>
                  <a:srgbClr val="003366"/>
                </a:solidFill>
                <a:latin typeface="Arial"/>
              </a:rPr>
              <a:t>analogi</a:t>
            </a:r>
            <a:r>
              <a:rPr b="0" lang="lt-LT" sz="2800" spc="-1" strike="noStrike">
                <a:solidFill>
                  <a:srgbClr val="003366"/>
                </a:solidFill>
                <a:latin typeface="Arial"/>
              </a:rPr>
              <a:t>š</a:t>
            </a:r>
            <a:r>
              <a:rPr b="0" lang="en-US" sz="2800" spc="-1" strike="noStrike">
                <a:solidFill>
                  <a:srgbClr val="003366"/>
                </a:solidFill>
                <a:latin typeface="Arial"/>
              </a:rPr>
              <a:t>k</a:t>
            </a:r>
            <a:r>
              <a:rPr b="0" lang="lt-LT" sz="2800" spc="-1" strike="noStrike">
                <a:solidFill>
                  <a:srgbClr val="003366"/>
                </a:solidFill>
                <a:latin typeface="Arial"/>
              </a:rPr>
              <a:t>ų</a:t>
            </a:r>
            <a:r>
              <a:rPr b="0" lang="en-US" sz="2800" spc="-1" strike="noStrike">
                <a:solidFill>
                  <a:srgbClr val="003366"/>
                </a:solidFill>
                <a:latin typeface="Arial"/>
              </a:rPr>
              <a:t> </a:t>
            </a:r>
            <a:r>
              <a:rPr b="0" lang="lt-LT" sz="2800" spc="-1" strike="noStrike">
                <a:solidFill>
                  <a:srgbClr val="003366"/>
                </a:solidFill>
                <a:latin typeface="Arial"/>
              </a:rPr>
              <a:t>protokolų pagrindu), įgalinančių perduoti ir priimti bet kokios prigimties ir rūšies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s kreipties režimas (online) - darbo kompiuteriniame tinkle būdas, kai pirkėjas (vartotojas) iš savo kompiuterio siunčia elektroninius duomenų pranešimus į tinkle esantį pardavėjo, paslaugos teikėjo ar elektroninės prekybos tarpininko kompiuterį, kuris iš karto apdoroja užklausą ir automatiškai atsiunčia pirkėjui (vartotojui) atsakomąjį elektroninį duomenų pranešimą</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aiktų pardavimo ir paslaugų teikimo, kai sutartys sudaromos, kai sutartys sudaromos naudojant ryšio priemones, taisyklės (Ūkio ministras, 2001-08-1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aida</a:t>
            </a:r>
            <a:endParaRPr b="1" lang="en-US" sz="3600" spc="-1" strike="noStrike">
              <a:solidFill>
                <a:srgbClr val="006666"/>
              </a:solidFill>
              <a:latin typeface="Arial"/>
            </a:endParaRPr>
          </a:p>
        </p:txBody>
      </p:sp>
      <p:sp>
        <p:nvSpPr>
          <p:cNvPr id="13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 komercija egzistuoja daugiau kaip </a:t>
            </a:r>
            <a:r>
              <a:rPr b="0" lang="en-GB" sz="2400" spc="-1" strike="noStrike">
                <a:solidFill>
                  <a:srgbClr val="003366"/>
                </a:solidFill>
                <a:latin typeface="Arial"/>
              </a:rPr>
              <a:t>20 </a:t>
            </a:r>
            <a:r>
              <a:rPr b="0" lang="lt-LT" sz="2400" spc="-1" strike="noStrike">
                <a:solidFill>
                  <a:srgbClr val="003366"/>
                </a:solidFill>
                <a:latin typeface="Arial"/>
              </a:rPr>
              <a:t>metų</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DI (angl. </a:t>
            </a:r>
            <a:r>
              <a:rPr b="0" lang="en-GB" sz="2400" spc="-1" strike="noStrike">
                <a:solidFill>
                  <a:srgbClr val="003366"/>
                </a:solidFill>
                <a:latin typeface="Arial"/>
              </a:rPr>
              <a:t>Electronic data interchange) </a:t>
            </a:r>
            <a:r>
              <a:rPr b="0" lang="lt-LT" sz="2400" spc="-1" strike="noStrike">
                <a:solidFill>
                  <a:srgbClr val="003366"/>
                </a:solidFill>
                <a:latin typeface="Arial"/>
              </a:rPr>
              <a:t>– elektroninis duomenų apsikeiti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s informacijos perdavimas iš kompiuterio į kompiuterį, naudojant sutartą standartą suformuoti informaciją (UNCITRAL Model Law on Electronic Commer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9-tasis dešimtmeti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audotas informacijos pasikeitimui uždarame tinkle tarp partnerių – verslo subjektų</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apimtys</a:t>
            </a:r>
            <a:endParaRPr b="1" lang="en-US" sz="3600" spc="-1" strike="noStrike">
              <a:solidFill>
                <a:srgbClr val="006666"/>
              </a:solidFill>
              <a:latin typeface="Arial"/>
            </a:endParaRPr>
          </a:p>
        </p:txBody>
      </p:sp>
      <p:graphicFrame>
        <p:nvGraphicFramePr>
          <p:cNvPr id="135" name="Object 0"/>
          <p:cNvGraphicFramePr/>
          <p:nvPr/>
        </p:nvGraphicFramePr>
        <p:xfrm>
          <a:off x="1828800" y="2514600"/>
          <a:ext cx="6095880" cy="4067280"/>
        </p:xfrm>
        <a:graphic>
          <a:graphicData uri="http://schemas.openxmlformats.org/presentationml/2006/ole">
            <p:oleObj r:id="rId1" spid="">
              <p:embed/>
              <p:pic>
                <p:nvPicPr>
                  <p:cNvPr id="136" name="Object 0" descr=""/>
                  <p:cNvPicPr/>
                  <p:nvPr/>
                </p:nvPicPr>
                <p:blipFill>
                  <a:blip r:embed="rId2"/>
                  <a:stretch/>
                </p:blipFill>
                <p:spPr>
                  <a:xfrm>
                    <a:off x="1828800" y="2514600"/>
                    <a:ext cx="60958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Žymiausi pavyzdžiai</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ekyba knygom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mazon.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kcionai</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ebay.com</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ukcionas.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aujienų portalai, kita informacij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delfi.l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vz.l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rūš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rindinės sąvok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atsiradimas ir raid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Žymiausi elektroninės komercijos pavyzdži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Cit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 think a lot of people initially thought that the "e" in e-business was more important than the business" - Michael Del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iai sandoriai, sudaromi globaliuosiuose tinkluose (OEC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ė veikla, susijusi su prekių ir paslaugų pirkimu-pardavimu ir kitomis verslo transakcijomis, kurių dalyviai yra nebūtinai toje pačioje fizinėje vietoje ir todėl sandorių sudarymui, jų vykdymui pasitelkia elektronines ar joms adekvačias priemones (M. Civilk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statymo apibrėžimas</a:t>
            </a:r>
            <a:endParaRPr b="1" lang="en-US" sz="3600" spc="-1" strike="noStrike">
              <a:solidFill>
                <a:srgbClr val="006666"/>
              </a:solidFill>
              <a:latin typeface="Arial"/>
            </a:endParaRPr>
          </a:p>
        </p:txBody>
      </p:sp>
      <p:sp>
        <p:nvSpPr>
          <p:cNvPr id="110" name=""/>
          <p:cNvSpPr txBox="1"/>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Elektroninė komercija</a:t>
            </a:r>
            <a:r>
              <a:rPr b="0" lang="lt-LT" sz="2800" spc="-1" strike="noStrike">
                <a:solidFill>
                  <a:srgbClr val="003366"/>
                </a:solidFill>
                <a:latin typeface="Arial"/>
              </a:rPr>
              <a:t> – informacinės visuomenės paslaugų (IVP) teikimas ir kita su IVP teikimu susijusi veik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IVP </a:t>
            </a:r>
            <a:r>
              <a:rPr b="0" lang="lt-LT" sz="2800" spc="-1" strike="noStrike">
                <a:solidFill>
                  <a:srgbClr val="003366"/>
                </a:solidFill>
                <a:latin typeface="Arial"/>
              </a:rPr>
              <a:t>– paprastai už atlyginimą elektroninėmis priemonėmis ir per atstumą individualiu IVP gavėjo prašymu teikiamos paslaugo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t>
            </a:r>
            <a:r>
              <a:rPr b="0" i="1" lang="lt-LT" sz="2800" spc="-1" strike="noStrike">
                <a:solidFill>
                  <a:srgbClr val="003366"/>
                </a:solidFill>
                <a:latin typeface="Arial"/>
              </a:rPr>
              <a:t>2006 m. Informacinės visuomenės paslaugų įstatymas</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erslo, prekybos prekėmis ir paslaugomis vykdymas, pasitelkiant telekomunikacijas ir telekomunikacijomis pagrįstas priemones, instrumentus (R. Clark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t>
            </a:r>
            <a:r>
              <a:rPr b="0" lang="de-DE" sz="2400" spc="-1" strike="noStrike">
                <a:solidFill>
                  <a:srgbClr val="003366"/>
                </a:solidFill>
                <a:latin typeface="Arial"/>
              </a:rPr>
              <a:t>erslo forma, kai šalys bendrauja elektroniniu b</a:t>
            </a:r>
            <a:r>
              <a:rPr b="0" lang="lt-LT" sz="2400" spc="-1" strike="noStrike">
                <a:solidFill>
                  <a:srgbClr val="003366"/>
                </a:solidFill>
                <a:latin typeface="Arial"/>
              </a:rPr>
              <a:t>ū</a:t>
            </a:r>
            <a:r>
              <a:rPr b="0" lang="de-DE" sz="2400" spc="-1" strike="noStrike">
                <a:solidFill>
                  <a:srgbClr val="003366"/>
                </a:solidFill>
                <a:latin typeface="Arial"/>
              </a:rPr>
              <a:t>du (T. Lamanausk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lačiąja prasme (paprastai laikoma neapimančia balso telefonij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iaurąja – reikėtų kalbėti tik apie Internetą ir kitus globalius tinklu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požymi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ndoriai sudaromi ar kitokie komerciniai santykiai palaikomi naudojant </a:t>
            </a: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a:t>
            </a:r>
            <a:r>
              <a:rPr b="0" lang="lt-LT" sz="2800" spc="-1" strike="noStrike">
                <a:solidFill>
                  <a:srgbClr val="003366"/>
                </a:solidFill>
                <a:latin typeface="Arial"/>
              </a:rPr>
              <a:t>ryšių priem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r</a:t>
            </a:r>
            <a:r>
              <a:rPr b="0" lang="lt-LT" sz="2800" spc="-1" strike="noStrike">
                <a:solidFill>
                  <a:srgbClr val="003366"/>
                </a:solidFill>
                <a:latin typeface="Arial"/>
              </a:rPr>
              <a:t>yšių priemo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lačiau nei tik Internetas (interneto komercij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astai suprantama kaip kompiuterių tinklai</a:t>
            </a:r>
            <a:r>
              <a:rPr b="0" lang="en-GB" sz="2400" spc="-1" strike="noStrike">
                <a:solidFill>
                  <a:srgbClr val="003366"/>
                </a:solidFill>
                <a:latin typeface="Arial"/>
              </a:rPr>
              <a:t>, ta</a:t>
            </a:r>
            <a:r>
              <a:rPr b="0" lang="lt-LT" sz="2400" spc="-1" strike="noStrike">
                <a:solidFill>
                  <a:srgbClr val="003366"/>
                </a:solidFill>
                <a:latin typeface="Arial"/>
              </a:rPr>
              <a:t>čiau yra platesnė samprat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ja </a:t>
            </a:r>
            <a:r>
              <a:rPr b="0" lang="lt-LT" sz="2800" spc="-1" strike="noStrike">
                <a:solidFill>
                  <a:srgbClr val="003366"/>
                </a:solidFill>
                <a:latin typeface="Arial"/>
                <a:ea typeface="Arial"/>
              </a:rPr>
              <a:t>#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io ryšio priemonė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inklas - perdavimo sistemos ir (arba) komutavimo ir maršrutizavimo įranga bei kiti ištekliai, kurie leidžia perduoti signalus laidinėmis, radijo, optinėmis ar kitomis elektromagnetinėmis priemonėmis, įskaitant palydovinius tinklus, fiksuotus (kanalų ir paketų komutavimo, įskaitant Internetą) ir judriuosius antžeminius tinklus, elektros perdavimo kabelines sistemas (kiek jos naudojamos signalams perduoti), tinklus, naudojamus radijo ir televizijos  programoms transliuoti (įskaitant retransliavimą), ir kabelinės televizijos bei MDTV tinklus, nepriklausomai nuo perduodamos informacijos pobūdžio</a:t>
            </a: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omercija </a:t>
            </a:r>
            <a:r>
              <a:rPr b="1" lang="en-GB" sz="3600" spc="-1" strike="noStrike">
                <a:solidFill>
                  <a:srgbClr val="006666"/>
                </a:solidFill>
                <a:latin typeface="Arial"/>
                <a:ea typeface="Arial"/>
              </a:rPr>
              <a:t># Prekyba</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Prekyba siaurąja prasme – pirkimo-pardavimo sandoriai</a:t>
            </a: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Komercija – plati samprata, apimanti visus komercinio pobūdžio santykius, įskaitant, bet neapsiribojant, bet kokiais prekybiniais prekių ar paslaugų tiekimo (teikimo) ar mainų sandoriais, distribucijos sutartimis, komerciniu atstovavimu ar tarpininkavimu, faktoringu, lizingu, ranga, konsultavimu, gamyba, licencijavimu, investavimu, finansavimu, bankininkyste, draudimu, tyrimo sutartimis ar koncesijomis, bendromis įmonėmis ir kitomis pramonės ar verslo kooperacijos formomis, prekių ar keleivių pervežimu oru, jūra, geležinkeliu ar keliais </a:t>
            </a:r>
            <a:endParaRPr b="0" lang="en-US" sz="2100" spc="-1" strike="noStrike">
              <a:solidFill>
                <a:srgbClr val="003366"/>
              </a:solidFill>
              <a:latin typeface="Arial"/>
            </a:endParaRPr>
          </a:p>
          <a:p>
            <a:pPr lvl="1" marL="743040" indent="-285840">
              <a:lnSpc>
                <a:spcPct val="90000"/>
              </a:lnSpc>
              <a:spcBef>
                <a:spcPts val="4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900" spc="-1" strike="noStrike">
                <a:solidFill>
                  <a:srgbClr val="003366"/>
                </a:solidFill>
                <a:latin typeface="Arial"/>
              </a:rPr>
              <a:t>UNCITRAL</a:t>
            </a:r>
            <a:r>
              <a:rPr b="0" lang="en-GB" sz="1900" spc="-1" strike="noStrike">
                <a:solidFill>
                  <a:srgbClr val="003366"/>
                </a:solidFill>
                <a:latin typeface="Arial"/>
              </a:rPr>
              <a:t> Model Law on Electronic Commerce</a:t>
            </a:r>
            <a:endParaRPr b="0" lang="en-US" sz="1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gle</cp:lastModifiedBy>
  <dcterms:modified xsi:type="dcterms:W3CDTF">2008-10-04T09:33:30Z</dcterms:modified>
  <cp:revision>4</cp:revision>
  <dc:subject/>
  <dc:title>Elektroninės komercijos teisinis reguliavimas</dc:title>
</cp:coreProperties>
</file>